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C27B-B512-4E4A-B807-E5C73B137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A2D5-216E-407F-8B52-30C28291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F5F5-914D-491E-85C3-097751B9D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A078-0956-4A64-B799-FAB39831A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81649-A197-49B5-92EE-0B3379D48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E1ED4-93BC-4342-BAC4-34F7DC38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10E83-2907-475A-974C-8F0B5AB8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95735B-DCBE-485A-9952-0C9DF337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7D1FF-3F2A-48A7-9D6B-A23F64D2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AB9F2-DE93-4959-8018-09CCCA8B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3CC69-8E1F-4DCD-A03A-B3F3C689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A008-778E-48D9-8ABC-D3CEC294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26656-2434-49DB-982C-73132319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5864F-4F6C-48E1-B09F-C7413399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72B06-0FDF-4169-B700-99FC9E9A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6E96F7-03F0-4144-BE82-C65F3AAE2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F46941-1F27-42BB-89E3-D7B97D19A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4AE23C-C9F5-4F47-9C60-9536C8F78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CED4A6-242C-4B17-936C-29D396ED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F19B36-975B-45EC-8006-9FC2492E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F1F3D7-6354-4A68-B048-05C381E9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B68578-4FA5-4C3E-8624-CEF92286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8E2D-52D1-47AE-B1B6-4CBB3C1C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21CBCF-450A-449D-8E14-A8BB73E3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F8ACD1-C773-4384-9DD9-5E7A3E01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FCA493-CDBA-4691-B4C6-20C1C511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C373F6-A665-4EF6-9AF5-82D3CF04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B12721-D51C-4426-8D03-01D44843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17DA9B-7894-4D5E-9D0D-F3803C727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769BFD-5360-4CF4-A230-8A2B2A4F8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45911-E0A3-45C2-83B7-ABB89B353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10EF7-4FF5-4697-A9C8-32019E1D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CBF8E-96D0-4970-934A-3F49E634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34D7-8CFB-4E3E-98D5-FBA4C7F4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81C59-E06B-4BC7-AEC8-F67A1686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D7052-6460-4FB2-B0EB-320F6865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B3F30-C5B5-4FBB-8E51-ECCDA785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46C6C-682A-4A2B-843D-E6B9C173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6AD8B-5058-4CDA-9359-A80BF065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A8D6B-FCCD-4F6D-81C4-54C819C1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6E818-D370-4364-A276-C9BE01BB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7092D-4169-49FF-81C7-D9499F69A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56989-245D-4463-9040-94FB93C09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0C194-F58F-42C1-8B8B-FC5C90053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BB0B-734F-48CC-B05B-908B4328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939E1-F6B8-4A38-8457-DD2077EF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3B76A-A763-41E5-8D37-9145FF03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90BDC-E694-4F1F-97BB-F950BDD5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DFA31-2E6A-4714-AE5A-8B334AE5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F5B0E-5BA4-4DB3-B56B-0E5388C1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36F46-3AE8-462C-96A7-83A84CAE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FAD3A-42E0-4280-A0FF-90001D24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A5DB6-27E5-4496-B176-F63AE75E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B481B-2D68-4428-9A36-A4F9E6F6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04FCD-0CD7-47EF-9E4B-6ACF2670E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5932-9465-47BF-AFD2-14B2EBA4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289AD-DC45-4FD6-AEB1-F640F108B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B6D0C-BAB1-42C6-8C62-10E31ABAC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3AD12-D184-4C91-8C01-D9F1539E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CF961-200D-4652-B5BD-0AB378C7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C4881-F9CF-4BEF-A6EE-6FFEA984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A9AF5-E9E5-4FBD-9718-AE3104C9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4CB08-90A6-4717-B152-DF736B37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58E63-36F8-4FAD-83FB-3E98E678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8FD48-EFAB-4B77-8960-DD543424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41C2A-B3E9-412F-9F15-1B4187FD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F763-D341-48F9-B10E-DB63DBD2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CD04A-1EAE-40DB-ADB8-D583467B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3CDB1-4DF0-4841-A216-2237589FA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2E407-0A34-482E-871C-B99C686AB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212CA-0859-41A0-80D0-30D5B4D1F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4E328-0252-4889-9BF5-DB159050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C6A2A-80FE-4595-8636-18CCE08C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082EB-99AF-49E1-A8E5-46995971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C4A6E-B447-4400-ADC9-CC587D9F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D99C1-B0E6-479A-97DB-D0545812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034D8-2D02-410C-B8BA-23ECC51A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39C1-6EC4-4D8E-B158-61A70F19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9545B-B0E9-4F42-B5CA-FC413841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56F1B-E11C-4635-9AE7-97ABF4BA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06744-B9C0-4A5B-9C4A-5674B02D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5F463-7573-4483-AC24-8E7057CD1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BBB89-B940-472C-BE5F-C75B61986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C115-8AD0-4499-974A-3F0BE71B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rgbClr val="cdd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152280" y="152280"/>
            <a:ext cx="8813880" cy="1346400"/>
          </a:xfrm>
          <a:prstGeom prst="rect">
            <a:avLst/>
          </a:prstGeom>
          <a:solidFill>
            <a:srgbClr val="2121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b50b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e895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2c9c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21212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8038-C440-4EA3-8171-C4A56D8DD7B5}" type="datetime">
              <a:rPr b="0" lang="en-US" sz="1100" spc="-1" strike="noStrike">
                <a:solidFill>
                  <a:srgbClr val="212121"/>
                </a:solidFill>
                <a:latin typeface="Aria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21212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DC4B-A8FE-4D7D-B72F-DABA6DA0AF75}" type="slidenum">
              <a:rPr b="0" lang="en-US" sz="1100" spc="-1" strike="noStrike">
                <a:solidFill>
                  <a:srgbClr val="21212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1d8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2121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b50b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e895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2c9c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dd4d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ED52-4321-4A4F-A7C8-D115067E7B0C}" type="datetime">
              <a:rPr b="0" lang="en-US" sz="1100" spc="-1" strike="noStrike">
                <a:solidFill>
                  <a:srgbClr val="cdd4d7"/>
                </a:solidFill>
                <a:latin typeface="Aria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761F-7739-49C0-BBCE-39E57DC4EC79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6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dd4d7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dd4d7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9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2121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1d8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b50b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e895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2c9c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56A8-85CD-4059-B285-AAC122DCC26A}" type="datetime">
              <a:rPr b="0" lang="en-US" sz="11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dd4d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F89E-77F6-4244-BE77-D78F1EC0A5BB}" type="slidenum">
              <a:rPr b="0" lang="en-US" sz="1100" spc="-1" strike="noStrike">
                <a:solidFill>
                  <a:srgbClr val="cdd4d7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9"/>
          <p:cNvSpPr/>
          <p:nvPr/>
        </p:nvSpPr>
        <p:spPr>
          <a:xfrm>
            <a:off x="152280" y="150840"/>
            <a:ext cx="8831520" cy="6556320"/>
          </a:xfrm>
          <a:prstGeom prst="rect">
            <a:avLst/>
          </a:prstGeom>
          <a:solidFill>
            <a:srgbClr val="cdd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b50b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e895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2c9c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21212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44BB-A898-4731-BFF7-A9F40F0992B3}" type="datetime">
              <a:rPr b="0" lang="en-US" sz="1100" spc="-1" strike="noStrike">
                <a:solidFill>
                  <a:srgbClr val="212121"/>
                </a:solidFill>
                <a:latin typeface="Aria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21212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973F-44DF-4EB9-8FF4-9B0412B45C8B}" type="slidenum">
              <a:rPr b="0" lang="en-US" sz="1100" spc="-1" strike="noStrike">
                <a:solidFill>
                  <a:srgbClr val="21212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d4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solidFill>
            <a:srgbClr val="1d8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152280" y="152280"/>
            <a:ext cx="670572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b50b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e895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2c9c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21212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ADE7-62D4-408E-AB26-C2E3C16B3FB8}" type="datetime">
              <a:rPr b="0" lang="en-US" sz="1100" spc="-1" strike="noStrike">
                <a:solidFill>
                  <a:srgbClr val="212121"/>
                </a:solidFill>
                <a:latin typeface="Aria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C6CA-AF76-4A8C-80F4-4EC4197BE6FE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d4d7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cdd4d7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d4d7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cdd4d7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b50b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d4d7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cdd4d7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e895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d4d7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cdd4d7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2c9c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d4d7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cdd4d7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d4d7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cdd4d7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d4d7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cdd4d7"/>
              </a:solidFill>
              <a:latin typeface="Franklin Gothic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dd4d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0164-1AE0-468C-9263-B7DDEE9BB57D}" type="datetime">
              <a:rPr b="0" lang="en-US" sz="1100" spc="-1" strike="noStrike">
                <a:solidFill>
                  <a:srgbClr val="cdd4d7"/>
                </a:solidFill>
                <a:latin typeface="Aria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dd4d7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dd4d7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dd4d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AE71-738D-45A9-B007-FC8E979C277F}" type="slidenum">
              <a:rPr b="0" lang="en-US" sz="1100" spc="-1" strike="noStrike">
                <a:solidFill>
                  <a:srgbClr val="cdd4d7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9"/>
          <p:cNvSpPr/>
          <p:nvPr/>
        </p:nvSpPr>
        <p:spPr>
          <a:xfrm>
            <a:off x="152280" y="147600"/>
            <a:ext cx="6705720" cy="6556320"/>
          </a:xfrm>
          <a:prstGeom prst="rect">
            <a:avLst/>
          </a:prstGeom>
          <a:solidFill>
            <a:srgbClr val="cdd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7010280" y="147600"/>
            <a:ext cx="1955880" cy="6556320"/>
          </a:xfrm>
          <a:prstGeom prst="rect">
            <a:avLst/>
          </a:prstGeom>
          <a:solidFill>
            <a:srgbClr val="2121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b50b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e895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2c9c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21212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10B0-9214-450B-A7BA-634072444E02}" type="datetime">
              <a:rPr b="0" lang="en-US" sz="1100" spc="-1" strike="noStrike">
                <a:solidFill>
                  <a:srgbClr val="212121"/>
                </a:solidFill>
                <a:latin typeface="Aria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dd4d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825E-8755-47EF-9F75-40CB459718BA}" type="slidenum">
              <a:rPr b="0" lang="en-US" sz="1100" spc="-1" strike="noStrike">
                <a:solidFill>
                  <a:srgbClr val="cdd4d7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l-gQLqv9f4o" TargetMode="External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RwlhUcSGqgs#aid=P-L5KBR_1UI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Content Placeholder 5" descr=""/>
          <p:cNvPicPr/>
          <p:nvPr/>
        </p:nvPicPr>
        <p:blipFill>
          <a:blip r:embed="rId1"/>
          <a:stretch/>
        </p:blipFill>
        <p:spPr>
          <a:xfrm>
            <a:off x="371520" y="1719360"/>
            <a:ext cx="8418600" cy="44067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H. 11 KWL </a:t>
            </a:r>
            <a:br>
              <a:rPr sz="3200"/>
            </a:b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(3 MINUTES/NAME &amp; CHAPTER ON IT/TURN IN)</a:t>
            </a:r>
            <a:endParaRPr b="0" lang="en-US" sz="1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03" name="Footer Placeholder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4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8FB1-0CE3-45EA-AAAD-9208EDC95782}" type="slidenum">
              <a:rPr b="0" lang="en-US" sz="1100" spc="-1" strike="noStrike">
                <a:solidFill>
                  <a:srgbClr val="21212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457200" y="4114800"/>
            <a:ext cx="7924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know from Ch. 9 about the importance of developing metacognitive skills in students, KWL is one way to do this (pp. 319-3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WL encourages students to “look within” and identify what they bring to the learning situatio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ng to Ch. 10/Ch. 11: allows students to be ACTIVE co-constructors, and to increase ag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7162560" y="2892600"/>
            <a:ext cx="1600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dd4d7"/>
              </a:solidFill>
              <a:latin typeface="Franklin Gothic Medium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title"/>
          </p:nvPr>
        </p:nvSpPr>
        <p:spPr>
          <a:xfrm>
            <a:off x="380520" y="2892600"/>
            <a:ext cx="6324840" cy="164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Medium"/>
              </a:rPr>
              <a:t>NOTE TAKING SHEET</a:t>
            </a:r>
            <a:endParaRPr b="0" lang="en-US" sz="4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DCD0-A91C-4DAD-9DA3-7D3989F54572}" type="slidenum">
              <a:rPr b="0" lang="en-US" sz="1100" spc="-1" strike="noStrike">
                <a:solidFill>
                  <a:srgbClr val="cdd4d7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oter Placeholder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7010280" y="2052720"/>
            <a:ext cx="19814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Franklin Gothic Medium"/>
              </a:rPr>
              <a:t>EDST 1002:</a:t>
            </a:r>
            <a:endParaRPr b="0" lang="en-US" sz="1900" spc="-1" strike="noStrike">
              <a:solidFill>
                <a:srgbClr val="212121"/>
              </a:solidFill>
              <a:latin typeface="Franklin Gothic Medium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457200" y="2052720"/>
            <a:ext cx="63244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dd4d7"/>
                </a:solidFill>
                <a:latin typeface="Franklin Gothic Medium"/>
              </a:rPr>
              <a:t>SOCIAL COGNITIVE VIEWS OF LEARNING AND MOTIVATION</a:t>
            </a:r>
            <a:endParaRPr b="0" lang="en-US" sz="3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46" name="Footer Placeholder 2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dd4d7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6F0E-D645-461A-A591-1F60D3E7BDCA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90000"/>
              </a:lnSpc>
              <a:spcBef>
                <a:spcPts val="901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121"/>
                </a:solidFill>
                <a:latin typeface="Franklin Gothic Medium"/>
              </a:rPr>
              <a:t>Bandura</a:t>
            </a:r>
            <a:endParaRPr b="0" lang="en-US" sz="36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901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121"/>
                </a:solidFill>
                <a:latin typeface="Franklin Gothic Medium"/>
              </a:rPr>
              <a:t>Modeling and Observational Learning</a:t>
            </a:r>
            <a:endParaRPr b="0" lang="en-US" sz="36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901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121"/>
                </a:solidFill>
                <a:latin typeface="Franklin Gothic Medium"/>
              </a:rPr>
              <a:t>Social Cognitive Theory</a:t>
            </a:r>
            <a:endParaRPr b="0" lang="en-US" sz="36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901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121"/>
                </a:solidFill>
                <a:latin typeface="Franklin Gothic Medium"/>
              </a:rPr>
              <a:t>Self-Regulated Learning</a:t>
            </a:r>
            <a:endParaRPr b="0" lang="en-US" sz="36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901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121"/>
                </a:solidFill>
                <a:latin typeface="Franklin Gothic Medium"/>
              </a:rPr>
              <a:t>Self-Efficacy</a:t>
            </a:r>
            <a:endParaRPr b="0" lang="en-US" sz="36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901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121"/>
                </a:solidFill>
                <a:latin typeface="Franklin Gothic Medium"/>
              </a:rPr>
              <a:t>Teacher’s Sense of Efficacy</a:t>
            </a:r>
            <a:endParaRPr b="0" lang="en-US" sz="36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901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HAPTER 11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FOCUS ON THESE MAJOR TOPICS: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50" name="Footer Placeholder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4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EBAD-4F74-4014-90E8-C2A08BB13524}" type="slidenum">
              <a:rPr b="0" lang="en-US" sz="1100" spc="-1" strike="noStrike">
                <a:solidFill>
                  <a:srgbClr val="21212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7162560" y="2892600"/>
            <a:ext cx="1600200" cy="164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d4d7"/>
                </a:solidFill>
                <a:latin typeface="Franklin Gothic Medium"/>
              </a:rPr>
              <a:t>Bobo Dolls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380520" y="1752120"/>
            <a:ext cx="632484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Franklin Gothic Medium"/>
              </a:rPr>
              <a:t>BANDURA: 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Franklin Gothic Medium"/>
              </a:rPr>
              <a:t>WHY DOES HE SOUND FAMILIAR?</a:t>
            </a:r>
            <a:br>
              <a:rPr sz="4200"/>
            </a:br>
            <a:r>
              <a:rPr b="0" lang="en-US" sz="2000" spc="-1" strike="noStrike">
                <a:solidFill>
                  <a:srgbClr val="ffffff"/>
                </a:solidFill>
                <a:latin typeface="Franklin Gothic Medium"/>
              </a:rPr>
              <a:t>(BUILDING ON PRIOR KNOWLEDGE)</a:t>
            </a:r>
            <a:endParaRPr b="0" lang="en-US" sz="20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DDDC-856D-4A1D-BF6B-A3AFE4762DBC}" type="slidenum">
              <a:rPr b="0" lang="en-US" sz="1100" spc="-1" strike="noStrike">
                <a:solidFill>
                  <a:srgbClr val="cdd4d7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3" descr=""/>
          <p:cNvPicPr/>
          <p:nvPr/>
        </p:nvPicPr>
        <p:blipFill>
          <a:blip r:embed="rId1"/>
          <a:stretch/>
        </p:blipFill>
        <p:spPr>
          <a:xfrm>
            <a:off x="7315200" y="457200"/>
            <a:ext cx="138420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457200" y="1600200"/>
            <a:ext cx="8470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21"/>
                </a:solidFill>
                <a:latin typeface="Arial"/>
              </a:rPr>
              <a:t>What you should know about Albert Bandura: </a:t>
            </a:r>
            <a:r>
              <a:rPr b="0" lang="en-US" sz="1800" spc="-1" strike="noStrike">
                <a:solidFill>
                  <a:srgbClr val="212121"/>
                </a:solidFill>
                <a:latin typeface="Arial"/>
              </a:rPr>
              <a:t>Social cognitive view of learning</a:t>
            </a:r>
            <a:endParaRPr b="0" lang="en-US" sz="1800" spc="-1" strike="noStrike">
              <a:solidFill>
                <a:srgbClr val="212121"/>
              </a:solidFill>
              <a:latin typeface="Franklin Gothic Medium"/>
            </a:endParaRPr>
          </a:p>
          <a:p>
            <a:pPr marL="36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21"/>
              </a:solidFill>
              <a:latin typeface="Franklin Gothic Medium"/>
            </a:endParaRPr>
          </a:p>
          <a:p>
            <a:pPr marL="36360">
              <a:lnSpc>
                <a:spcPct val="80000"/>
              </a:lnSpc>
              <a:spcBef>
                <a:spcPts val="601"/>
              </a:spcBef>
              <a:buClr>
                <a:srgbClr val="1d86cd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21"/>
                </a:solidFill>
                <a:latin typeface="Franklin Gothic Medium"/>
              </a:rPr>
              <a:t>Bandura suggested that the main limitation of traditional views of learning are…*</a:t>
            </a:r>
            <a:endParaRPr b="0" lang="en-US" sz="2400" spc="-1" strike="noStrike">
              <a:solidFill>
                <a:srgbClr val="212121"/>
              </a:solidFill>
              <a:latin typeface="Franklin Gothic Medium"/>
            </a:endParaRPr>
          </a:p>
          <a:p>
            <a:pPr marL="36360">
              <a:lnSpc>
                <a:spcPct val="80000"/>
              </a:lnSpc>
              <a:spcBef>
                <a:spcPts val="601"/>
              </a:spcBef>
              <a:buClr>
                <a:srgbClr val="1d86cd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21"/>
                </a:solidFill>
                <a:latin typeface="Franklin Gothic Medium"/>
              </a:rPr>
              <a:t>According to Bandura's theory of self-efficacy, the most important and influential source of self-efficacy information comes from…*</a:t>
            </a:r>
            <a:endParaRPr b="0" lang="en-US" sz="2400" spc="-1" strike="noStrike">
              <a:solidFill>
                <a:srgbClr val="212121"/>
              </a:solidFill>
              <a:latin typeface="Franklin Gothic Medium"/>
            </a:endParaRPr>
          </a:p>
          <a:p>
            <a:pPr marL="36360">
              <a:lnSpc>
                <a:spcPct val="80000"/>
              </a:lnSpc>
              <a:spcBef>
                <a:spcPts val="601"/>
              </a:spcBef>
              <a:buClr>
                <a:srgbClr val="1d86cd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21"/>
                </a:solidFill>
                <a:latin typeface="Franklin Gothic Medium"/>
              </a:rPr>
              <a:t>In Bandura's social cognitive learning theory, the interaction among personal factors, environmental events, and behaviors is called…*</a:t>
            </a:r>
            <a:endParaRPr b="0" lang="en-US" sz="2400" spc="-1" strike="noStrike">
              <a:solidFill>
                <a:srgbClr val="212121"/>
              </a:solidFill>
              <a:latin typeface="Franklin Gothic Medium"/>
            </a:endParaRPr>
          </a:p>
          <a:p>
            <a:pPr marL="36360">
              <a:lnSpc>
                <a:spcPct val="80000"/>
              </a:lnSpc>
              <a:spcBef>
                <a:spcPts val="601"/>
              </a:spcBef>
              <a:buClr>
                <a:srgbClr val="1d86cd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21"/>
                </a:solidFill>
                <a:latin typeface="Franklin Gothic Medium"/>
              </a:rPr>
              <a:t>Bandura's model of reciprocal causality is based on …*</a:t>
            </a:r>
            <a:endParaRPr b="0" lang="en-US" sz="2400" spc="-1" strike="noStrike">
              <a:solidFill>
                <a:srgbClr val="212121"/>
              </a:solidFill>
              <a:latin typeface="Franklin Gothic Medium"/>
            </a:endParaRPr>
          </a:p>
          <a:p>
            <a:pPr marL="36360">
              <a:lnSpc>
                <a:spcPct val="80000"/>
              </a:lnSpc>
              <a:spcBef>
                <a:spcPts val="601"/>
              </a:spcBef>
              <a:buClr>
                <a:srgbClr val="1d86cd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21"/>
                </a:solidFill>
                <a:latin typeface="Franklin Gothic Medium"/>
              </a:rPr>
              <a:t>How does Albert Bandura's social cognitive theory help us to understand Annie's comment "I just can't do this writing stuff”?...*</a:t>
            </a:r>
            <a:endParaRPr b="0" lang="en-US" sz="2400" spc="-1" strike="noStrike">
              <a:solidFill>
                <a:srgbClr val="212121"/>
              </a:solidFill>
              <a:latin typeface="Franklin Gothic Medium"/>
            </a:endParaRPr>
          </a:p>
          <a:p>
            <a:pPr marL="36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-914760" y="304920"/>
            <a:ext cx="838188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OCIAL-COGNITIVE THEORY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59" name="Footer Placeholder 1"/>
          <p:cNvSpPr/>
          <p:nvPr/>
        </p:nvSpPr>
        <p:spPr>
          <a:xfrm>
            <a:off x="5029200" y="6400800"/>
            <a:ext cx="3352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558E-AA87-4E2A-A828-89E8B68EE1E3}" type="slidenum">
              <a:rPr b="0" lang="en-US" sz="1100" spc="-1" strike="noStrike">
                <a:solidFill>
                  <a:srgbClr val="21212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550"/>
              </a:spcBef>
              <a:buClr>
                <a:srgbClr val="1d86c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86cd"/>
                </a:solidFill>
                <a:latin typeface="Franklin Gothic Medium"/>
              </a:rPr>
              <a:t>Social learning theory</a:t>
            </a:r>
            <a:r>
              <a:rPr b="0" lang="en-US" sz="2200" spc="-1" strike="noStrike">
                <a:solidFill>
                  <a:srgbClr val="212121"/>
                </a:solidFill>
                <a:latin typeface="Franklin Gothic Medium"/>
              </a:rPr>
              <a:t>: emphasizes learning through observation of others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722160" indent="-272880">
              <a:spcBef>
                <a:spcPts val="550"/>
              </a:spcBef>
              <a:buClr>
                <a:srgbClr val="732e9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Franklin Gothic Medium"/>
              </a:rPr>
              <a:t>emphasis on modeling and observation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7221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marL="419040" indent="-382680">
              <a:spcBef>
                <a:spcPts val="550"/>
              </a:spcBef>
              <a:buClr>
                <a:srgbClr val="1d86c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Franklin Gothic Medium"/>
              </a:rPr>
              <a:t>Behaviorism was too limited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722160" indent="-272880">
              <a:spcBef>
                <a:spcPts val="550"/>
              </a:spcBef>
              <a:buClr>
                <a:srgbClr val="732e9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Franklin Gothic Medium"/>
              </a:rPr>
              <a:t>no effects of social modeling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722160" indent="-272880">
              <a:spcBef>
                <a:spcPts val="550"/>
              </a:spcBef>
              <a:buClr>
                <a:srgbClr val="732e9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Franklin Gothic Medium"/>
              </a:rPr>
              <a:t>culture not affected only by rewards/punishments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marL="419040" indent="-382680">
              <a:spcBef>
                <a:spcPts val="550"/>
              </a:spcBef>
              <a:buClr>
                <a:srgbClr val="1d86c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marL="419040" indent="-382680">
              <a:spcBef>
                <a:spcPts val="550"/>
              </a:spcBef>
              <a:buClr>
                <a:srgbClr val="1d86c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Franklin Gothic Medium"/>
              </a:rPr>
              <a:t>Bandura raises the question about the role of </a:t>
            </a:r>
            <a:r>
              <a:rPr b="0" lang="en-US" sz="2200" spc="-1" strike="noStrike">
                <a:solidFill>
                  <a:srgbClr val="1d86cd"/>
                </a:solidFill>
                <a:latin typeface="Franklin Gothic Medium"/>
              </a:rPr>
              <a:t>expectations</a:t>
            </a:r>
            <a:r>
              <a:rPr b="0" lang="en-US" sz="2200" spc="-1" strike="noStrike">
                <a:solidFill>
                  <a:srgbClr val="212121"/>
                </a:solidFill>
                <a:latin typeface="Franklin Gothic Medium"/>
              </a:rPr>
              <a:t> and </a:t>
            </a:r>
            <a:r>
              <a:rPr b="0" lang="en-US" sz="2200" spc="-1" strike="noStrike">
                <a:solidFill>
                  <a:srgbClr val="1d86cd"/>
                </a:solidFill>
                <a:latin typeface="Franklin Gothic Medium"/>
              </a:rPr>
              <a:t>beliefs </a:t>
            </a:r>
            <a:r>
              <a:rPr b="0" lang="en-US" sz="2200" spc="-1" strike="noStrike">
                <a:solidFill>
                  <a:srgbClr val="000000"/>
                </a:solidFill>
                <a:latin typeface="Franklin Gothic Medium"/>
              </a:rPr>
              <a:t>(p. 399)</a:t>
            </a:r>
            <a:r>
              <a:rPr b="0" lang="en-US" sz="2200" spc="-1" strike="noStrike">
                <a:solidFill>
                  <a:srgbClr val="212121"/>
                </a:solidFill>
                <a:latin typeface="Franklin Gothic Medium"/>
              </a:rPr>
              <a:t>?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OCIAL LEARNING THEORY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63" name="Footer Placeholder 1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4F41-7FD4-4792-9913-EC17A2187207}" type="slidenum">
              <a:rPr b="0" lang="en-US" sz="1100" spc="-1" strike="noStrike">
                <a:solidFill>
                  <a:srgbClr val="21212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99"/>
              </a:spcBef>
              <a:buClr>
                <a:srgbClr val="1d86c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Theory that adds concern with cognitive factors such as:</a:t>
            </a:r>
            <a:endParaRPr b="0" lang="en-US" sz="32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693720" indent="-382680">
              <a:spcBef>
                <a:spcPts val="700"/>
              </a:spcBef>
              <a:buClr>
                <a:srgbClr val="732e9a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Beliefs, </a:t>
            </a:r>
            <a:endParaRPr b="0" lang="en-US" sz="28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693720" indent="-382680">
              <a:spcBef>
                <a:spcPts val="700"/>
              </a:spcBef>
              <a:buClr>
                <a:srgbClr val="732e9a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Self-perceptions</a:t>
            </a:r>
            <a:endParaRPr b="0" lang="en-US" sz="28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693720" indent="-382680">
              <a:spcBef>
                <a:spcPts val="700"/>
              </a:spcBef>
              <a:buClr>
                <a:srgbClr val="732e9a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Expectations</a:t>
            </a:r>
            <a:endParaRPr b="0" lang="en-US" sz="28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693720" indent="-382680">
              <a:spcBef>
                <a:spcPts val="799"/>
              </a:spcBef>
              <a:buClr>
                <a:srgbClr val="732e9a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21"/>
              </a:solidFill>
              <a:latin typeface="Franklin Gothic Medium"/>
            </a:endParaRPr>
          </a:p>
          <a:p>
            <a:pPr marL="419040" indent="-382680">
              <a:spcBef>
                <a:spcPts val="799"/>
              </a:spcBef>
              <a:buClr>
                <a:srgbClr val="1d86c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Franklin Gothic Medium"/>
              </a:rPr>
              <a:t>Dynamic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 system that explains human learning and motivation</a:t>
            </a:r>
            <a:endParaRPr b="0" lang="en-US" sz="32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OCIAL COGNITIVE THEORY IS A…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67" name="Footer Placeholder 1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3F3E6-0EA4-4BD0-97A9-F13BEA464FAA}" type="slidenum">
              <a:rPr b="0" lang="en-US" sz="1100" spc="-1" strike="noStrike">
                <a:solidFill>
                  <a:srgbClr val="21212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7162560" y="2892600"/>
            <a:ext cx="1600200" cy="164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d4d7"/>
                </a:solidFill>
                <a:latin typeface="Franklin Gothic Medium"/>
              </a:rPr>
              <a:t>Review (dynamic)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380520" y="2892600"/>
            <a:ext cx="6324840" cy="164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Medium"/>
              </a:rPr>
              <a:t>WHAT IS SOCIAL COGNITIVE THEORY?</a:t>
            </a:r>
            <a:endParaRPr b="0" lang="en-US" sz="4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71" name="Slide Number Placeholder 4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C1B7-C862-4A62-962E-D590E5EAAC93}" type="slidenum">
              <a:rPr b="0" lang="en-US" sz="1100" spc="-1" strike="noStrike">
                <a:solidFill>
                  <a:srgbClr val="cdd4d7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ooter Placeholder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Content Placeholder 3" descr=""/>
          <p:cNvPicPr/>
          <p:nvPr/>
        </p:nvPicPr>
        <p:blipFill>
          <a:blip r:embed="rId1"/>
          <a:stretch/>
        </p:blipFill>
        <p:spPr>
          <a:xfrm>
            <a:off x="384120" y="457200"/>
            <a:ext cx="8412120" cy="5913360"/>
          </a:xfrm>
          <a:prstGeom prst="rect">
            <a:avLst/>
          </a:prstGeom>
          <a:ln w="0">
            <a:noFill/>
          </a:ln>
        </p:spPr>
      </p:pic>
      <p:sp>
        <p:nvSpPr>
          <p:cNvPr id="374" name="Footer Placeholder 1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2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1245-7BFC-4956-94CC-180F892C7F22}" type="slidenum">
              <a:rPr b="0" lang="en-US" sz="1100" spc="-1" strike="noStrike">
                <a:solidFill>
                  <a:srgbClr val="21212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1"/>
          <p:cNvSpPr/>
          <p:nvPr/>
        </p:nvSpPr>
        <p:spPr>
          <a:xfrm>
            <a:off x="380880" y="3049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iprocal Influe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p. 3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80880" y="1719360"/>
            <a:ext cx="84074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524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12121"/>
                </a:solidFill>
                <a:latin typeface="Franklin Gothic Medium"/>
              </a:rPr>
              <a:t>How is Knowledge Viewed:  </a:t>
            </a:r>
            <a:endParaRPr b="0" lang="en-US" sz="21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spcBef>
                <a:spcPts val="476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spcBef>
                <a:spcPts val="524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12121"/>
                </a:solidFill>
                <a:latin typeface="Franklin Gothic Medium"/>
              </a:rPr>
              <a:t>How is Learning Viewed:</a:t>
            </a:r>
            <a:endParaRPr b="0" lang="en-US" sz="21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spcBef>
                <a:spcPts val="476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spcBef>
                <a:spcPts val="524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12121"/>
                </a:solidFill>
                <a:latin typeface="Franklin Gothic Medium"/>
              </a:rPr>
              <a:t>What is the Role of Teaching/Role of Teacher:</a:t>
            </a:r>
            <a:endParaRPr b="0" lang="en-US" sz="21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spcBef>
                <a:spcPts val="476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spcBef>
                <a:spcPts val="524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12121"/>
                </a:solidFill>
                <a:latin typeface="Franklin Gothic Medium"/>
              </a:rPr>
              <a:t>What is the Role of Peers:</a:t>
            </a:r>
            <a:endParaRPr b="0" lang="en-US" sz="21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spcBef>
                <a:spcPts val="476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spcBef>
                <a:spcPts val="524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12121"/>
                </a:solidFill>
                <a:latin typeface="Franklin Gothic Medium"/>
              </a:rPr>
              <a:t>What is the Role of the Student:</a:t>
            </a:r>
            <a:endParaRPr b="0" lang="en-US" sz="21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spcBef>
                <a:spcPts val="524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OCIAL COGNITIVE THEORY </a:t>
            </a: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(2 MINUTES)</a:t>
            </a:r>
            <a:endParaRPr b="0" lang="en-US" sz="1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79" name="Footer Placeholder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4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48FE-009E-415A-BEFC-91500389F0D2}" type="slidenum">
              <a:rPr b="0" lang="en-US" sz="1100" spc="-1" strike="noStrike">
                <a:solidFill>
                  <a:srgbClr val="21212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7162560" y="2892600"/>
            <a:ext cx="1600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dd4d7"/>
              </a:solidFill>
              <a:latin typeface="Franklin Gothic Mediu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380520" y="2892600"/>
            <a:ext cx="6324840" cy="164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Franklin Gothic Medium"/>
              </a:rPr>
              <a:t>TURN IN KWL: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Franklin Gothic Medium"/>
              </a:rPr>
              <a:t>DOUG COLLECT</a:t>
            </a:r>
            <a:endParaRPr b="0" lang="en-US" sz="4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BE97-8E5C-442D-B70A-5D916ACB3674}" type="slidenum">
              <a:rPr b="0" lang="en-US" sz="1100" spc="-1" strike="noStrike">
                <a:solidFill>
                  <a:srgbClr val="cdd4d7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ooter Placeholder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80880" y="1719360"/>
            <a:ext cx="84074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90000"/>
              </a:lnSpc>
              <a:spcBef>
                <a:spcPts val="524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12121"/>
                </a:solidFill>
                <a:latin typeface="Franklin Gothic Medium"/>
              </a:rPr>
              <a:t>Knowledge:  </a:t>
            </a:r>
            <a:endParaRPr b="0" lang="en-US" sz="21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90000"/>
              </a:lnSpc>
              <a:spcBef>
                <a:spcPts val="476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12121"/>
                </a:solidFill>
                <a:latin typeface="Franklin Gothic Medium"/>
              </a:rPr>
              <a:t>Changing body of knowledge, constructed in interaction with others and the environment. </a:t>
            </a:r>
            <a:endParaRPr b="0" lang="en-US" sz="19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524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12121"/>
                </a:solidFill>
                <a:latin typeface="Franklin Gothic Medium"/>
              </a:rPr>
              <a:t>Learning:</a:t>
            </a:r>
            <a:endParaRPr b="0" lang="en-US" sz="21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90000"/>
              </a:lnSpc>
              <a:spcBef>
                <a:spcPts val="476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12121"/>
                </a:solidFill>
                <a:latin typeface="Franklin Gothic Medium"/>
              </a:rPr>
              <a:t>Active construction of knowledge based on observation</a:t>
            </a:r>
            <a:endParaRPr b="0" lang="en-US" sz="19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90000"/>
              </a:lnSpc>
              <a:spcBef>
                <a:spcPts val="476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12121"/>
                </a:solidFill>
                <a:latin typeface="Franklin Gothic Medium"/>
              </a:rPr>
              <a:t>Interacting with the physical and social world</a:t>
            </a:r>
            <a:endParaRPr b="0" lang="en-US" sz="19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90000"/>
              </a:lnSpc>
              <a:spcBef>
                <a:spcPts val="476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12121"/>
                </a:solidFill>
                <a:latin typeface="Franklin Gothic Medium"/>
              </a:rPr>
              <a:t>Developing agency (self-regulation)</a:t>
            </a:r>
            <a:endParaRPr b="0" lang="en-US" sz="19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524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12121"/>
                </a:solidFill>
                <a:latin typeface="Franklin Gothic Medium"/>
              </a:rPr>
              <a:t>Teaching/Role of Teacher:</a:t>
            </a:r>
            <a:endParaRPr b="0" lang="en-US" sz="21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90000"/>
              </a:lnSpc>
              <a:spcBef>
                <a:spcPts val="476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12121"/>
                </a:solidFill>
                <a:latin typeface="Franklin Gothic Medium"/>
              </a:rPr>
              <a:t>Modeling, facilitate</a:t>
            </a:r>
            <a:endParaRPr b="0" lang="en-US" sz="19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524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12121"/>
                </a:solidFill>
                <a:latin typeface="Franklin Gothic Medium"/>
              </a:rPr>
              <a:t>Peers:</a:t>
            </a:r>
            <a:endParaRPr b="0" lang="en-US" sz="21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90000"/>
              </a:lnSpc>
              <a:spcBef>
                <a:spcPts val="476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12121"/>
                </a:solidFill>
                <a:latin typeface="Franklin Gothic Medium"/>
              </a:rPr>
              <a:t>Model and construct knowledge</a:t>
            </a:r>
            <a:endParaRPr b="0" lang="en-US" sz="19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524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12121"/>
                </a:solidFill>
                <a:latin typeface="Franklin Gothic Medium"/>
              </a:rPr>
              <a:t>Student:</a:t>
            </a:r>
            <a:endParaRPr b="0" lang="en-US" sz="21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90000"/>
              </a:lnSpc>
              <a:spcBef>
                <a:spcPts val="476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12121"/>
                </a:solidFill>
                <a:latin typeface="Franklin Gothic Medium"/>
              </a:rPr>
              <a:t>Active co-construction with others and self</a:t>
            </a:r>
            <a:endParaRPr b="0" lang="en-US" sz="19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90000"/>
              </a:lnSpc>
              <a:spcBef>
                <a:spcPts val="476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12121"/>
                </a:solidFill>
                <a:latin typeface="Franklin Gothic Medium"/>
              </a:rPr>
              <a:t>Active thinker, questioner, participator</a:t>
            </a:r>
            <a:endParaRPr b="0" lang="en-US" sz="19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476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OCIAL COGNITIVE THEORY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83" name="Footer Placeholder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lide Number Placeholder 4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3281-BAF0-4EFF-B061-28775B1549CB}" type="slidenum">
              <a:rPr b="0" lang="en-US" sz="1100" spc="-1" strike="noStrike">
                <a:solidFill>
                  <a:srgbClr val="21212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5998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100000"/>
              </a:lnSpc>
              <a:spcBef>
                <a:spcPts val="499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Arial"/>
              </a:rPr>
              <a:t>learning by observing others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Arial"/>
              </a:rPr>
              <a:t>observations teach us how to perform a behavior, what will happen to us in specific situations if we perform it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Arial"/>
              </a:rPr>
              <a:t>4 elements: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451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86cd"/>
                </a:solidFill>
                <a:latin typeface="Arial"/>
              </a:rPr>
              <a:t>attention</a:t>
            </a:r>
            <a:endParaRPr b="0" lang="en-US" sz="18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451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86cd"/>
                </a:solidFill>
                <a:latin typeface="Arial"/>
              </a:rPr>
              <a:t>retention</a:t>
            </a:r>
            <a:endParaRPr b="0" lang="en-US" sz="18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451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86cd"/>
                </a:solidFill>
                <a:latin typeface="Arial"/>
              </a:rPr>
              <a:t>production</a:t>
            </a:r>
            <a:endParaRPr b="0" lang="en-US" sz="18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451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86cd"/>
                </a:solidFill>
                <a:latin typeface="Arial"/>
              </a:rPr>
              <a:t>motivation and reinforcement</a:t>
            </a:r>
            <a:endParaRPr b="0" lang="en-US" sz="18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451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86cd"/>
                </a:solidFill>
                <a:latin typeface="Arial"/>
              </a:rPr>
              <a:t>What do these four elements mean?… (next slide)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499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MODELING: OBSERVATIONAL LEARNING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87" name="Footer Placeholder 2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157D-FE3B-410B-9B24-EA20E34FE2DE}" type="slidenum">
              <a:rPr b="0" lang="en-US" sz="1100" spc="-1" strike="noStrike">
                <a:solidFill>
                  <a:srgbClr val="21212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76184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99"/>
              </a:spcBef>
              <a:buClr>
                <a:srgbClr val="1d86c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86cd"/>
                </a:solidFill>
                <a:latin typeface="Franklin Gothic Medium"/>
              </a:rPr>
              <a:t>Attention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marL="419040" indent="-382680">
              <a:spcBef>
                <a:spcPts val="499"/>
              </a:spcBef>
              <a:buClr>
                <a:srgbClr val="1d86c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86cd"/>
                </a:solidFill>
                <a:latin typeface="Franklin Gothic Medium"/>
              </a:rPr>
              <a:t>Retention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722160" indent="-272880">
              <a:spcBef>
                <a:spcPts val="451"/>
              </a:spcBef>
              <a:buClr>
                <a:srgbClr val="732e9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21"/>
                </a:solidFill>
                <a:latin typeface="Franklin Gothic Medium"/>
              </a:rPr>
              <a:t>remember the behavior</a:t>
            </a:r>
            <a:endParaRPr b="0" lang="en-US" sz="18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722160" indent="-272880">
              <a:spcBef>
                <a:spcPts val="451"/>
              </a:spcBef>
              <a:buClr>
                <a:srgbClr val="732e9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21"/>
                </a:solidFill>
                <a:latin typeface="Franklin Gothic Medium"/>
              </a:rPr>
              <a:t>make mental representations (verbal steps, visual images, etc.)</a:t>
            </a:r>
            <a:endParaRPr b="0" lang="en-US" sz="18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722160" indent="-272880">
              <a:spcBef>
                <a:spcPts val="451"/>
              </a:spcBef>
              <a:buClr>
                <a:srgbClr val="732e9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21"/>
                </a:solidFill>
                <a:latin typeface="Franklin Gothic Medium"/>
              </a:rPr>
              <a:t>mental rehearsal or practice</a:t>
            </a:r>
            <a:endParaRPr b="0" lang="en-US" sz="1800" spc="-1" strike="noStrike">
              <a:solidFill>
                <a:srgbClr val="212121"/>
              </a:solidFill>
              <a:latin typeface="Franklin Gothic Medium"/>
            </a:endParaRPr>
          </a:p>
          <a:p>
            <a:pPr marL="419040" indent="-382680">
              <a:spcBef>
                <a:spcPts val="499"/>
              </a:spcBef>
              <a:buClr>
                <a:srgbClr val="1d86c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86cd"/>
                </a:solidFill>
                <a:latin typeface="Franklin Gothic Medium"/>
              </a:rPr>
              <a:t>Production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722160" indent="-272880">
              <a:spcBef>
                <a:spcPts val="451"/>
              </a:spcBef>
              <a:buClr>
                <a:srgbClr val="732e9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21"/>
                </a:solidFill>
                <a:latin typeface="Franklin Gothic Medium"/>
              </a:rPr>
              <a:t>practice, feedback, coaching</a:t>
            </a:r>
            <a:endParaRPr b="0" lang="en-US" sz="1800" spc="-1" strike="noStrike">
              <a:solidFill>
                <a:srgbClr val="212121"/>
              </a:solidFill>
              <a:latin typeface="Franklin Gothic Medium"/>
            </a:endParaRPr>
          </a:p>
          <a:p>
            <a:pPr marL="419040" indent="-382680">
              <a:spcBef>
                <a:spcPts val="499"/>
              </a:spcBef>
              <a:buClr>
                <a:srgbClr val="1d86c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86cd"/>
                </a:solidFill>
                <a:latin typeface="Franklin Gothic Medium"/>
              </a:rPr>
              <a:t>Motivation and Reinforcement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722160" indent="-272880">
              <a:spcBef>
                <a:spcPts val="451"/>
              </a:spcBef>
              <a:buClr>
                <a:srgbClr val="732e9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21"/>
                </a:solidFill>
                <a:latin typeface="Franklin Gothic Medium"/>
              </a:rPr>
              <a:t>direct reinforcement, vicarious reinforcement, self-reinforcement</a:t>
            </a:r>
            <a:endParaRPr b="0" lang="en-US" sz="18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MODELING: OBSERVATIONAL LEARNING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91" name="Footer Placeholder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4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0213-41D7-49F9-A4FD-DB19BE749237}" type="slidenum">
              <a:rPr b="0" lang="en-US" sz="1100" spc="-1" strike="noStrike">
                <a:solidFill>
                  <a:srgbClr val="21212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Arial"/>
              </a:rPr>
              <a:t>APPLICATION (Mary/Nick): 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Arial"/>
              </a:rPr>
              <a:t>Think about….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Arial"/>
              </a:rPr>
              <a:t>How could you incorporate observational learning into your teaching?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Arial"/>
              </a:rPr>
              <a:t>What are the skills, attitudes, and strategies that can be modeled in teaching your subject?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BSERVATIONAL LEARNING IN TEACHING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95" name="Footer Placeholder 2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B205-8647-4AA5-859C-918E6ACE38D9}" type="slidenum">
              <a:rPr b="0" lang="en-US" sz="1100" spc="-1" strike="noStrike">
                <a:solidFill>
                  <a:srgbClr val="21212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676520"/>
            <a:ext cx="784872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86cd"/>
                </a:solidFill>
                <a:latin typeface="Franklin Gothic Medium"/>
              </a:rPr>
              <a:t>Refer to the Guidelines Section (p. 404)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marL="36360">
              <a:spcBef>
                <a:spcPts val="499"/>
              </a:spcBef>
              <a:buClr>
                <a:srgbClr val="1d86c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86cd"/>
                </a:solidFill>
                <a:latin typeface="Franklin Gothic Medium"/>
              </a:rPr>
              <a:t>Directing attention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marL="36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marL="36360">
              <a:spcBef>
                <a:spcPts val="499"/>
              </a:spcBef>
              <a:buClr>
                <a:srgbClr val="1d86c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86cd"/>
                </a:solidFill>
                <a:latin typeface="Franklin Gothic Medium"/>
              </a:rPr>
              <a:t>Adjusting already-learned behaviors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marL="36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marL="36360">
              <a:spcBef>
                <a:spcPts val="499"/>
              </a:spcBef>
              <a:buClr>
                <a:srgbClr val="1d86c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86cd"/>
                </a:solidFill>
                <a:latin typeface="Franklin Gothic Medium"/>
              </a:rPr>
              <a:t>Strengthening or weakening inhibitions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marL="36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marL="36360">
              <a:spcBef>
                <a:spcPts val="499"/>
              </a:spcBef>
              <a:buClr>
                <a:srgbClr val="1d86c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86cd"/>
                </a:solidFill>
                <a:latin typeface="Franklin Gothic Medium"/>
              </a:rPr>
              <a:t>Teaching new behaviors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marL="36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marL="36360">
              <a:spcBef>
                <a:spcPts val="499"/>
              </a:spcBef>
              <a:buClr>
                <a:srgbClr val="1d86c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86cd"/>
                </a:solidFill>
                <a:latin typeface="Franklin Gothic Medium"/>
              </a:rPr>
              <a:t>Arousing emotion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BSERVATIONAL LEARNING IN TEACHING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99" name="Footer Placeholder 1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4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F412-CD74-499C-A12A-5C628CC4FE4C}" type="slidenum">
              <a:rPr b="0" lang="en-US" sz="1100" spc="-1" strike="noStrike">
                <a:solidFill>
                  <a:srgbClr val="21212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100000"/>
              </a:lnSpc>
              <a:spcBef>
                <a:spcPts val="550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86cd"/>
                </a:solidFill>
                <a:latin typeface="Arial"/>
              </a:rPr>
              <a:t>Self-efficacy</a:t>
            </a: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: A person’s sense of being able to deal effectively with a particular task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451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21"/>
                </a:solidFill>
                <a:latin typeface="Arial"/>
              </a:rPr>
              <a:t>Do you believe in your ability to perform well on the exam? </a:t>
            </a:r>
            <a:endParaRPr b="0" lang="en-US" sz="18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550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86cd"/>
                </a:solidFill>
                <a:latin typeface="Arial"/>
              </a:rPr>
              <a:t>Agency</a:t>
            </a: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: the capacity to coordinate learning skills, motivation, and emotions to reach your goals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550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Make intentional choices and plans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2" marL="822240" indent="-182520">
              <a:lnSpc>
                <a:spcPct val="100000"/>
              </a:lnSpc>
              <a:spcBef>
                <a:spcPts val="499"/>
              </a:spcBef>
              <a:buClr>
                <a:srgbClr val="b50b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Arial"/>
              </a:rPr>
              <a:t>After individual interviews, did you have a plan? What have been your intentional choices?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2" marL="822240" indent="-182520">
              <a:lnSpc>
                <a:spcPct val="100000"/>
              </a:lnSpc>
              <a:spcBef>
                <a:spcPts val="499"/>
              </a:spcBef>
              <a:buClr>
                <a:srgbClr val="b50b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Arial"/>
              </a:rPr>
              <a:t>Consider how this can this apply to this class or others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LF-EFFICACY AND AGENCY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03" name="Footer Placeholder 1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2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AA99-6FF5-4290-AEEE-CDCCF0B8C775}" type="slidenum">
              <a:rPr b="0" lang="en-US" sz="1100" spc="-1" strike="noStrike">
                <a:solidFill>
                  <a:srgbClr val="21212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100000"/>
              </a:lnSpc>
              <a:spcBef>
                <a:spcPts val="550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greater efficacy…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550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greater effort and persistence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550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set higher goals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550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less afraid of failure 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2" marL="822240" indent="-182520">
              <a:lnSpc>
                <a:spcPct val="100000"/>
              </a:lnSpc>
              <a:spcBef>
                <a:spcPts val="499"/>
              </a:spcBef>
              <a:buClr>
                <a:srgbClr val="b50b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Arial"/>
              </a:rPr>
              <a:t>I am looking for you to try, demonstrate you are wrestling with the material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550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new strategies when old ones fail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Franklin Gothic Medium"/>
              </a:rPr>
              <a:t>SELF-EFFICACY IN LEARNING AND TEACHING</a:t>
            </a:r>
            <a:endParaRPr b="0" lang="en-US" sz="29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07" name="Footer Placeholder 2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FA0E-1B05-414A-AEFF-B0811BCDDC50}" type="slidenum">
              <a:rPr b="0" lang="en-US" sz="1100" spc="-1" strike="noStrike">
                <a:solidFill>
                  <a:srgbClr val="21212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100000"/>
              </a:lnSpc>
              <a:spcBef>
                <a:spcPts val="550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86cd"/>
                </a:solidFill>
                <a:latin typeface="Arial"/>
              </a:rPr>
              <a:t>Why is it important?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550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550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550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High self-efficacy associated with…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550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performance in middle through high school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550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life satisfaction in adolescence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550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deep processing learning strategies 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550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performance in college for older students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Franklin Gothic Medium"/>
              </a:rPr>
              <a:t>SELF-EFFICACY IN LEARNING AND TEACHING</a:t>
            </a:r>
            <a:endParaRPr b="0" lang="en-US" sz="29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11" name="Footer Placeholder 1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2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A9FD-B9F0-4BFD-AF49-6A61CCC3E263}" type="slidenum">
              <a:rPr b="0" lang="en-US" sz="1100" spc="-1" strike="noStrike">
                <a:solidFill>
                  <a:srgbClr val="21212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100000"/>
              </a:lnSpc>
              <a:spcBef>
                <a:spcPts val="550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86cd"/>
                </a:solidFill>
                <a:latin typeface="Arial"/>
              </a:rPr>
              <a:t>Performance and self-efficacy can be improved when…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550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students adopt short-term goals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2" marL="822240" indent="-182520">
              <a:lnSpc>
                <a:spcPct val="100000"/>
              </a:lnSpc>
              <a:spcBef>
                <a:spcPts val="550"/>
              </a:spcBef>
              <a:buClr>
                <a:srgbClr val="b50b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easier to judge progress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2" marL="822240" indent="-182520">
              <a:lnSpc>
                <a:spcPct val="100000"/>
              </a:lnSpc>
              <a:spcBef>
                <a:spcPts val="550"/>
              </a:spcBef>
              <a:buClr>
                <a:srgbClr val="b50b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550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students are taught to use specific learning strategies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2" marL="822240" indent="-182520">
              <a:lnSpc>
                <a:spcPct val="100000"/>
              </a:lnSpc>
              <a:spcBef>
                <a:spcPts val="550"/>
              </a:spcBef>
              <a:buClr>
                <a:srgbClr val="b50b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focus attention with outlining, summarizing, etc.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2" marL="822240" indent="-182520">
              <a:lnSpc>
                <a:spcPct val="100000"/>
              </a:lnSpc>
              <a:spcBef>
                <a:spcPts val="550"/>
              </a:spcBef>
              <a:buClr>
                <a:srgbClr val="b50b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these still matter in college/this course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2" marL="822240" indent="-182520">
              <a:lnSpc>
                <a:spcPct val="100000"/>
              </a:lnSpc>
              <a:spcBef>
                <a:spcPts val="550"/>
              </a:spcBef>
              <a:buClr>
                <a:srgbClr val="b50b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550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students receive rewards based on achievement (not just engagement)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2" marL="822240" indent="-182520">
              <a:lnSpc>
                <a:spcPct val="100000"/>
              </a:lnSpc>
              <a:spcBef>
                <a:spcPts val="550"/>
              </a:spcBef>
              <a:buClr>
                <a:srgbClr val="b50b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signals increasing competence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Franklin Gothic Medium"/>
              </a:rPr>
              <a:t>SELF-EFFICACY IN LEARNING AND TEACHING</a:t>
            </a:r>
            <a:endParaRPr b="0" lang="en-US" sz="29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15" name="Footer Placeholder 1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2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EF5C-D2A1-4CC0-99F3-4B12EED63EAD}" type="slidenum">
              <a:rPr b="0" lang="en-US" sz="1100" spc="-1" strike="noStrike">
                <a:solidFill>
                  <a:srgbClr val="21212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100000"/>
              </a:lnSpc>
              <a:spcBef>
                <a:spcPts val="550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86cd"/>
                </a:solidFill>
                <a:latin typeface="Arial"/>
              </a:rPr>
              <a:t>How might a teacher’s sense of efficacy affect student learning?*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451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86cd"/>
                </a:solidFill>
                <a:latin typeface="Arial"/>
              </a:rPr>
              <a:t>Know this! Review in your textbook.</a:t>
            </a:r>
            <a:endParaRPr b="0" lang="en-US" sz="18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Teachers’ sense of efficacy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19" name="Footer Placeholder 1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lide Number Placeholder 2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E75D-03FE-440E-8320-E8A54CF235D5}" type="slidenum">
              <a:rPr b="0" lang="en-US" sz="1100" spc="-1" strike="noStrike">
                <a:solidFill>
                  <a:srgbClr val="21212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7010280" y="2052720"/>
            <a:ext cx="19814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12121"/>
              </a:solidFill>
              <a:latin typeface="Franklin Gothic Medium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Franklin Gothic Medium"/>
              </a:rPr>
              <a:t>http</a:t>
            </a:r>
            <a:r>
              <a:rPr b="0" lang="en-US" sz="1900" spc="-1" strike="noStrike" u="sng">
                <a:solidFill>
                  <a:srgbClr val="ec4d4d"/>
                </a:solidFill>
                <a:uFillTx/>
                <a:latin typeface="Franklin Gothic Medium"/>
                <a:hlinkClick r:id="rId1"/>
              </a:rPr>
              <a:t>://www.youtube.com/watch?v=l-gQLqv9f4o</a:t>
            </a:r>
            <a:endParaRPr b="0" lang="en-US" sz="19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6324480" cy="586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Franklin Gothic Medium"/>
              </a:rPr>
              <a:t>WE ALL NEED </a:t>
            </a:r>
            <a:br>
              <a:rPr sz="7200"/>
            </a:br>
            <a:r>
              <a:rPr b="0" lang="en-US" sz="7200" spc="-1" strike="noStrike">
                <a:solidFill>
                  <a:srgbClr val="ffffff"/>
                </a:solidFill>
                <a:latin typeface="Franklin Gothic Medium"/>
              </a:rPr>
              <a:t>A PEP TALK</a:t>
            </a:r>
            <a:br>
              <a:rPr sz="4200"/>
            </a:br>
            <a:r>
              <a:rPr b="0" lang="en-US" sz="2000" spc="-1" strike="noStrike">
                <a:solidFill>
                  <a:srgbClr val="ffffff"/>
                </a:solidFill>
                <a:latin typeface="Franklin Gothic Medium"/>
              </a:rPr>
              <a:t>END OF THE TERM IS STRESSFUL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Franklin Gothic Medium"/>
              </a:rPr>
              <a:t>GRADES ARE BEING ENTERED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Franklin Gothic Medium"/>
              </a:rPr>
              <a:t>ANXIETY IS HIGH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Franklin Gothic Medium"/>
              </a:rPr>
              <a:t>LARGELY- I SEE GRADES AS A CONVERS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Franklin Gothic Medium"/>
              </a:rPr>
              <a:t>BUT YOU NEED TO FOLLOW THROUGH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Franklin Gothic Medium"/>
              </a:rPr>
              <a:t>RESERVED TIME IN SYLLABUS TO ME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Franklin Gothic Medium"/>
              </a:rPr>
              <a:t>MAKE PROPER USE OF LC PEER LEADER/ADVISOR- 3 OF US CAN MEET</a:t>
            </a:r>
            <a:endParaRPr b="0" lang="en-US" sz="20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64FF-1CF7-4582-AF2B-6799F9BC9542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ooter Placeholder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dd4d7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4"/>
          <p:cNvSpPr/>
          <p:nvPr/>
        </p:nvSpPr>
        <p:spPr>
          <a:xfrm>
            <a:off x="7162920" y="1828800"/>
            <a:ext cx="1447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lay video until 1:5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17080">
              <a:lnSpc>
                <a:spcPct val="100000"/>
              </a:lnSpc>
              <a:spcBef>
                <a:spcPts val="799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21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212121"/>
                </a:solidFill>
                <a:latin typeface="Arial"/>
              </a:rPr>
              <a:t>A major goal of formal education is to equip students with the intellectual tools self-beliefs, and self-regulatory capabilities to educate themselves throughout their lifetime. The rapid pace of technological change and accelerated growth of knowledge are placing a premium on capability for self-directed learning” (Bandura, quoted in Woolfolk, 2012, p. 409).</a:t>
            </a:r>
            <a:endParaRPr b="0" lang="en-US" sz="32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LF-REGULATED LEARNING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23" name="Footer Placeholder 1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2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BAF1-CAD3-4D2E-8FB4-8671FCE948FC}" type="slidenum">
              <a:rPr b="0" lang="en-US" sz="1100" spc="-1" strike="noStrike">
                <a:solidFill>
                  <a:srgbClr val="21212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86cd"/>
                </a:solidFill>
                <a:latin typeface="Franklin Gothic Medium"/>
              </a:rPr>
              <a:t>Turn to p. 410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marL="36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86cd"/>
                </a:solidFill>
                <a:latin typeface="Franklin Gothic Medium"/>
              </a:rPr>
              <a:t>On a scale of 1 (not at all true) to 7 (very true)…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marL="36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marL="36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Cognitive strategies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marL="36360">
              <a:spcBef>
                <a:spcPts val="499"/>
              </a:spcBef>
              <a:buClr>
                <a:srgbClr val="1d86c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When I study for a test, I try to put together the information from class and from the book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marL="36360">
              <a:spcBef>
                <a:spcPts val="499"/>
              </a:spcBef>
              <a:buClr>
                <a:srgbClr val="1d86c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When I do homework, I try to remember what the teacher said in class so I can answer the question correctly.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marL="36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Sense of efficacy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marL="36360">
              <a:spcBef>
                <a:spcPts val="499"/>
              </a:spcBef>
              <a:buClr>
                <a:srgbClr val="1d86c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I know I will be able to learn the material for this class. 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marL="36360">
              <a:spcBef>
                <a:spcPts val="499"/>
              </a:spcBef>
              <a:buClr>
                <a:srgbClr val="1d86c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I expect to do well in this class. 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LF-REGULATION IN LEARNING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27" name="Footer Placeholder 1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CA8A-CC2A-4F0B-B08E-814B20BB4D1F}" type="slidenum">
              <a:rPr b="0" lang="en-US" sz="1100" spc="-1" strike="noStrike">
                <a:solidFill>
                  <a:srgbClr val="21212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86cd"/>
                </a:solidFill>
                <a:latin typeface="Franklin Gothic Medium"/>
              </a:rPr>
              <a:t>On a scale of 1 (not at all true) to 7 (very true)…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marL="36360">
              <a:spcBef>
                <a:spcPts val="499"/>
              </a:spcBef>
              <a:buClr>
                <a:srgbClr val="1d86c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marL="36360">
              <a:spcBef>
                <a:spcPts val="499"/>
              </a:spcBef>
              <a:buClr>
                <a:srgbClr val="1d86c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I expect to do well in this class.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marL="36360">
              <a:spcBef>
                <a:spcPts val="499"/>
              </a:spcBef>
              <a:buClr>
                <a:srgbClr val="1d86c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I ask myself questions to make sure I know the material I have been studying.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marL="36360">
              <a:spcBef>
                <a:spcPts val="499"/>
              </a:spcBef>
              <a:buClr>
                <a:srgbClr val="1d86c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Franklin Gothic Medium"/>
              </a:rPr>
              <a:t>Even when study materials are dull and uninteresting, I keep working until I finish.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LF-REGULATION IN LEARNING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31" name="Footer Placeholder 1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F197-DE92-4266-B129-5B3208BF9700}" type="slidenum">
              <a:rPr b="0" lang="en-US" sz="1100" spc="-1" strike="noStrike">
                <a:solidFill>
                  <a:srgbClr val="21212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550"/>
              </a:spcBef>
              <a:buClr>
                <a:srgbClr val="1d86c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86cd"/>
                </a:solidFill>
                <a:latin typeface="Arial"/>
                <a:ea typeface="Arial"/>
              </a:rPr>
              <a:t>process of activating and sustaining thoughts, behaviors, and emotions in order to reach goals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marL="419040" indent="-38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marL="419040" indent="-382680">
              <a:lnSpc>
                <a:spcPct val="100000"/>
              </a:lnSpc>
              <a:spcBef>
                <a:spcPts val="550"/>
              </a:spcBef>
              <a:buClr>
                <a:srgbClr val="1d86c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  <a:ea typeface="Arial"/>
              </a:rPr>
              <a:t>combination of academic learning skills and self-control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722160" indent="-272880">
              <a:lnSpc>
                <a:spcPct val="100000"/>
              </a:lnSpc>
              <a:spcBef>
                <a:spcPts val="550"/>
              </a:spcBef>
              <a:buClr>
                <a:srgbClr val="732e9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  <a:ea typeface="Arial"/>
              </a:rPr>
              <a:t>makes learning easier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722160" indent="-272880">
              <a:lnSpc>
                <a:spcPct val="100000"/>
              </a:lnSpc>
              <a:spcBef>
                <a:spcPts val="550"/>
              </a:spcBef>
              <a:buClr>
                <a:srgbClr val="732e9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  <a:ea typeface="Arial"/>
              </a:rPr>
              <a:t>more motivation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LF-REGULATIO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35" name="Footer Placeholder 1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BBB2-2F00-42F6-A25D-A72F6BDC11AA}" type="slidenum">
              <a:rPr b="0" lang="en-US" sz="1100" spc="-1" strike="noStrike">
                <a:solidFill>
                  <a:srgbClr val="21212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100000"/>
              </a:lnSpc>
              <a:spcBef>
                <a:spcPts val="550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86cd"/>
                </a:solidFill>
                <a:latin typeface="Arial"/>
              </a:rPr>
              <a:t>Knowledge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550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about themselves, the subject, the task, strategies, context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550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550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86cd"/>
                </a:solidFill>
                <a:latin typeface="Arial"/>
              </a:rPr>
              <a:t>Motivation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550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value learning, believe can improve intelligence and abilities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550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550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86cd"/>
                </a:solidFill>
                <a:latin typeface="Arial"/>
              </a:rPr>
              <a:t>Volition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550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will power, self-discipline, work styles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INFLUENCES ON SELF-REGULATIO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39" name="Footer Placeholder 1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2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1B69-966E-46FE-B56E-52B26FD604DA}" type="slidenum">
              <a:rPr b="0" lang="en-US" sz="1100" spc="-1" strike="noStrike">
                <a:solidFill>
                  <a:srgbClr val="21212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4572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100000"/>
              </a:lnSpc>
              <a:spcBef>
                <a:spcPts val="550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86cd"/>
                </a:solidFill>
                <a:latin typeface="Arial"/>
              </a:rPr>
              <a:t>Development of self-regulation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550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generally improves over time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550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girls better than boys at a young age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550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co-regulation: 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2" marL="822240" indent="-182520">
              <a:lnSpc>
                <a:spcPct val="100000"/>
              </a:lnSpc>
              <a:spcBef>
                <a:spcPts val="550"/>
              </a:spcBef>
              <a:buClr>
                <a:srgbClr val="b50b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modeling, direct teaching, feedback, and coaching from others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2" marL="822240" indent="-182520">
              <a:lnSpc>
                <a:spcPct val="100000"/>
              </a:lnSpc>
              <a:spcBef>
                <a:spcPts val="550"/>
              </a:spcBef>
              <a:buClr>
                <a:srgbClr val="b50b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gradually adopt as own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550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shared regulation: 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2" marL="822240" indent="-182520">
              <a:lnSpc>
                <a:spcPct val="100000"/>
              </a:lnSpc>
              <a:spcBef>
                <a:spcPts val="550"/>
              </a:spcBef>
              <a:buClr>
                <a:srgbClr val="b50b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students working together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2" marL="822240" indent="-182520">
              <a:lnSpc>
                <a:spcPct val="100000"/>
              </a:lnSpc>
              <a:spcBef>
                <a:spcPts val="550"/>
              </a:spcBef>
              <a:buClr>
                <a:srgbClr val="b50b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reminders, prompts, guidance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INFLUENCES ON SELF-REGULATIO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43" name="Footer Placeholder 1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lide Number Placeholder 2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DDAE-D201-4831-99CC-651C94B2CCD7}" type="slidenum">
              <a:rPr b="0" lang="en-US" sz="1100" spc="-1" strike="noStrike">
                <a:solidFill>
                  <a:srgbClr val="21212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100000"/>
              </a:lnSpc>
              <a:spcBef>
                <a:spcPts val="550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86cd"/>
                </a:solidFill>
                <a:latin typeface="Arial"/>
              </a:rPr>
              <a:t>Self-awareness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550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86cd"/>
                </a:solidFill>
                <a:latin typeface="Arial"/>
              </a:rPr>
              <a:t>Self-management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550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86cd"/>
                </a:solidFill>
                <a:latin typeface="Arial"/>
              </a:rPr>
              <a:t>Social awareness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550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86cd"/>
                </a:solidFill>
                <a:latin typeface="Arial"/>
              </a:rPr>
              <a:t>Relationship skills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550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86cd"/>
                </a:solidFill>
                <a:latin typeface="Arial"/>
              </a:rPr>
              <a:t>Responsible decision-making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EMOTIONAL SELF-REGULATIO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47" name="Footer Placeholder 1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lide Number Placeholder 2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3F4E-DB07-4025-8809-77B5892A94F6}" type="slidenum">
              <a:rPr b="0" lang="en-US" sz="1100" spc="-1" strike="noStrike">
                <a:solidFill>
                  <a:srgbClr val="21212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100000"/>
              </a:lnSpc>
              <a:spcBef>
                <a:spcPts val="550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Control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550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give students choices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2" marL="822240" indent="-182520">
              <a:lnSpc>
                <a:spcPct val="100000"/>
              </a:lnSpc>
              <a:spcBef>
                <a:spcPts val="550"/>
              </a:spcBef>
              <a:buClr>
                <a:srgbClr val="b50b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what to produce, how to produce it, where to work, whom to work with 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2" marL="822240" indent="-182520">
              <a:lnSpc>
                <a:spcPct val="100000"/>
              </a:lnSpc>
              <a:spcBef>
                <a:spcPts val="550"/>
              </a:spcBef>
              <a:buClr>
                <a:srgbClr val="b50b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(characters)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550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encourage responsibility for learning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2" marL="822240" indent="-182520">
              <a:lnSpc>
                <a:spcPct val="100000"/>
              </a:lnSpc>
              <a:spcBef>
                <a:spcPts val="550"/>
              </a:spcBef>
              <a:buClr>
                <a:srgbClr val="b50b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planning, setting goals, monitoring, evaluating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2" marL="822240" indent="-182520">
              <a:lnSpc>
                <a:spcPct val="100000"/>
              </a:lnSpc>
              <a:spcBef>
                <a:spcPts val="550"/>
              </a:spcBef>
              <a:buClr>
                <a:srgbClr val="b50b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(come to class prepared and to actively make sense of material; move past “I am confused” to taking ownership) 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IMPLICATIONS FOR TEACHER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51" name="Footer Placeholder 1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2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D5B3-B467-42F2-A687-A3082F9C30A6}" type="slidenum">
              <a:rPr b="0" lang="en-US" sz="1100" spc="-1" strike="noStrike">
                <a:solidFill>
                  <a:srgbClr val="21212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100000"/>
              </a:lnSpc>
              <a:spcBef>
                <a:spcPts val="550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Self-evaluation (asked in indv. Meetings)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550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Non-threatening 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2" marL="822240" indent="-182520">
              <a:lnSpc>
                <a:spcPct val="100000"/>
              </a:lnSpc>
              <a:spcBef>
                <a:spcPts val="499"/>
              </a:spcBef>
              <a:buClr>
                <a:srgbClr val="b50b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Arial"/>
              </a:rPr>
              <a:t>Grow before grades issued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550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Emphasize process as well as products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2" marL="822240" indent="-182520">
              <a:lnSpc>
                <a:spcPct val="100000"/>
              </a:lnSpc>
              <a:spcBef>
                <a:spcPts val="499"/>
              </a:spcBef>
              <a:buClr>
                <a:srgbClr val="b50b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Arial"/>
              </a:rPr>
              <a:t>Reflection! Know what you know and don’t know!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550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21"/>
                </a:solidFill>
                <a:latin typeface="Arial"/>
              </a:rPr>
              <a:t>Interpret errors as opportunities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2" marL="822240" indent="-182520">
              <a:lnSpc>
                <a:spcPct val="100000"/>
              </a:lnSpc>
              <a:spcBef>
                <a:spcPts val="499"/>
              </a:spcBef>
              <a:buClr>
                <a:srgbClr val="b50b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21"/>
                </a:solidFill>
                <a:latin typeface="Arial"/>
              </a:rPr>
              <a:t>This is why I am giving you feedback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  <a:p>
            <a:pPr lvl="1" marL="547560" indent="-182520">
              <a:lnSpc>
                <a:spcPct val="100000"/>
              </a:lnSpc>
              <a:spcBef>
                <a:spcPts val="550"/>
              </a:spcBef>
              <a:buClr>
                <a:srgbClr val="732e9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ving students ownership over evaluation lessens anxiety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lvl="2" marL="822240" indent="-182520">
              <a:lnSpc>
                <a:spcPct val="100000"/>
              </a:lnSpc>
              <a:spcBef>
                <a:spcPts val="499"/>
              </a:spcBef>
              <a:buClr>
                <a:srgbClr val="b50b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portunity to meet with me, early term feedback, and why what you say matters</a:t>
            </a:r>
            <a:endParaRPr b="0" lang="en-US" sz="20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IMPLICATIONS FOR TEACHER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55" name="Footer Placeholder 1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lide Number Placeholder 2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FEA8-3A2A-4A41-92E1-B40B4C05F6BD}" type="slidenum">
              <a:rPr b="0" lang="en-US" sz="1100" spc="-1" strike="noStrike">
                <a:solidFill>
                  <a:srgbClr val="21212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100000"/>
              </a:lnSpc>
              <a:spcBef>
                <a:spcPts val="550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86cd"/>
                </a:solidFill>
                <a:latin typeface="Arial"/>
              </a:rPr>
              <a:t>Behavioral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550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86cd"/>
                </a:solidFill>
                <a:latin typeface="Arial"/>
              </a:rPr>
              <a:t>Cognitive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550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550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86cd"/>
                </a:solidFill>
                <a:latin typeface="Arial"/>
              </a:rPr>
              <a:t>Constructivist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550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  <a:p>
            <a:pPr marL="272880" indent="-228600">
              <a:lnSpc>
                <a:spcPct val="100000"/>
              </a:lnSpc>
              <a:spcBef>
                <a:spcPts val="550"/>
              </a:spcBef>
              <a:buClr>
                <a:srgbClr val="1d86c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d86cd"/>
                </a:solidFill>
                <a:latin typeface="Arial"/>
              </a:rPr>
              <a:t>Social Cognitive</a:t>
            </a:r>
            <a:endParaRPr b="0" lang="en-US" sz="22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Bringing it all together…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59" name="Footer Placeholder 1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297D-9D13-4597-AB63-42573B14DC38}" type="slidenum">
              <a:rPr b="0" lang="en-US" sz="1100" spc="-1" strike="noStrike">
                <a:solidFill>
                  <a:srgbClr val="21212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7162560" y="2892600"/>
            <a:ext cx="1600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dd4d7"/>
              </a:solidFill>
              <a:latin typeface="Franklin Gothic Medium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380520" y="1066680"/>
            <a:ext cx="6324840" cy="34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RE-EMPHASIZE: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Franklin Gothic Medium"/>
              </a:rPr>
              <a:t>I CHALLENGE YOU BECAUSE </a:t>
            </a:r>
            <a:r>
              <a:rPr b="0" lang="en-US" sz="4200" spc="-1" strike="noStrike">
                <a:solidFill>
                  <a:srgbClr val="ff0000"/>
                </a:solidFill>
                <a:latin typeface="Franklin Gothic Medium"/>
              </a:rPr>
              <a:t>I CARE </a:t>
            </a:r>
            <a:r>
              <a:rPr b="0" lang="en-US" sz="4200" spc="-1" strike="noStrike">
                <a:solidFill>
                  <a:srgbClr val="ffffff"/>
                </a:solidFill>
                <a:latin typeface="Franklin Gothic Medium"/>
              </a:rPr>
              <a:t>ABOUT YOUR DEVELOPMENT AS A PROFESSIONAL</a:t>
            </a:r>
            <a:br>
              <a:rPr sz="4200"/>
            </a:br>
            <a:br>
              <a:rPr sz="4200"/>
            </a:b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WE ARE ON THE SAME TEAM &amp; WE HAVE WORK TO DO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4E99-54A1-4D5C-AB35-AA23C5863615}" type="slidenum">
              <a:rPr b="0" lang="en-US" sz="1100" spc="-1" strike="noStrike">
                <a:solidFill>
                  <a:srgbClr val="cdd4d7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ooter Placeholder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7010280" y="2052720"/>
            <a:ext cx="19814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ec4d4d"/>
                </a:solidFill>
                <a:uFillTx/>
                <a:latin typeface="Franklin Gothic Medium"/>
                <a:hlinkClick r:id="rId1"/>
              </a:rPr>
              <a:t>http://www.youtube.com/watch?v=RwlhUcSGqgs#aid=P-L5KBR_1UI</a:t>
            </a:r>
            <a:endParaRPr b="0" lang="en-US" sz="19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title"/>
          </p:nvPr>
        </p:nvSpPr>
        <p:spPr>
          <a:xfrm>
            <a:off x="457200" y="2052720"/>
            <a:ext cx="63244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Franklin Gothic Medium"/>
              </a:rPr>
              <a:t>WE ALL NEED </a:t>
            </a:r>
            <a:br>
              <a:rPr sz="7200"/>
            </a:br>
            <a:r>
              <a:rPr b="0" lang="en-US" sz="7200" spc="-1" strike="noStrike">
                <a:solidFill>
                  <a:srgbClr val="ffffff"/>
                </a:solidFill>
                <a:latin typeface="Franklin Gothic Medium"/>
              </a:rPr>
              <a:t>A PEP TALK</a:t>
            </a:r>
            <a:br>
              <a:rPr sz="4200"/>
            </a:b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CELINE’S VIDEO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5549-1EFA-4554-AE0C-A7B1CAAEF457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dd4d7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1480" indent="-457200">
              <a:lnSpc>
                <a:spcPct val="80000"/>
              </a:lnSpc>
              <a:spcBef>
                <a:spcPts val="649"/>
              </a:spcBef>
              <a:buClr>
                <a:srgbClr val="1d86cd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121"/>
                </a:solidFill>
                <a:latin typeface="Franklin Gothic Medium"/>
              </a:rPr>
              <a:t>Name of Chapter 11</a:t>
            </a:r>
            <a:endParaRPr b="0" lang="en-US" sz="2600" spc="-1" strike="noStrike">
              <a:solidFill>
                <a:srgbClr val="212121"/>
              </a:solidFill>
              <a:latin typeface="Franklin Gothic Medium"/>
            </a:endParaRPr>
          </a:p>
          <a:p>
            <a:pPr marL="501480" indent="-457200">
              <a:lnSpc>
                <a:spcPct val="80000"/>
              </a:lnSpc>
              <a:spcBef>
                <a:spcPts val="649"/>
              </a:spcBef>
              <a:buClr>
                <a:srgbClr val="1d86cd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121"/>
                </a:solidFill>
                <a:latin typeface="Franklin Gothic Medium"/>
              </a:rPr>
              <a:t>Major theorists and theories covered in the chapter</a:t>
            </a:r>
            <a:endParaRPr b="0" lang="en-US" sz="2600" spc="-1" strike="noStrike">
              <a:solidFill>
                <a:srgbClr val="212121"/>
              </a:solidFill>
              <a:latin typeface="Franklin Gothic Medium"/>
            </a:endParaRPr>
          </a:p>
          <a:p>
            <a:pPr marL="501480" indent="-457200">
              <a:lnSpc>
                <a:spcPct val="80000"/>
              </a:lnSpc>
              <a:spcBef>
                <a:spcPts val="649"/>
              </a:spcBef>
              <a:buClr>
                <a:srgbClr val="1d86cd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121"/>
                </a:solidFill>
                <a:latin typeface="Franklin Gothic Medium"/>
              </a:rPr>
              <a:t>Observational learning can lead to five possible outcomes, list them.</a:t>
            </a:r>
            <a:endParaRPr b="0" lang="en-US" sz="2600" spc="-1" strike="noStrike">
              <a:solidFill>
                <a:srgbClr val="212121"/>
              </a:solidFill>
              <a:latin typeface="Franklin Gothic Medium"/>
            </a:endParaRPr>
          </a:p>
          <a:p>
            <a:pPr marL="501480" indent="-457200">
              <a:lnSpc>
                <a:spcPct val="80000"/>
              </a:lnSpc>
              <a:spcBef>
                <a:spcPts val="649"/>
              </a:spcBef>
              <a:buClr>
                <a:srgbClr val="1d86cd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121"/>
                </a:solidFill>
                <a:latin typeface="Franklin Gothic Medium"/>
              </a:rPr>
              <a:t>What is self-efficacy and how is it different from other self-schemas?</a:t>
            </a:r>
            <a:endParaRPr b="0" lang="en-US" sz="2600" spc="-1" strike="noStrike">
              <a:solidFill>
                <a:srgbClr val="212121"/>
              </a:solidFill>
              <a:latin typeface="Franklin Gothic Medium"/>
            </a:endParaRPr>
          </a:p>
          <a:p>
            <a:pPr marL="501480" indent="-457200">
              <a:lnSpc>
                <a:spcPct val="80000"/>
              </a:lnSpc>
              <a:spcBef>
                <a:spcPts val="649"/>
              </a:spcBef>
              <a:buClr>
                <a:srgbClr val="1d86cd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121"/>
                </a:solidFill>
                <a:latin typeface="Franklin Gothic Medium"/>
              </a:rPr>
              <a:t>What is a teacher’s sense of self of self efficacy?</a:t>
            </a:r>
            <a:endParaRPr b="0" lang="en-US" sz="2600" spc="-1" strike="noStrike">
              <a:solidFill>
                <a:srgbClr val="212121"/>
              </a:solidFill>
              <a:latin typeface="Franklin Gothic Medium"/>
            </a:endParaRPr>
          </a:p>
          <a:p>
            <a:pPr marL="501480" indent="-457200">
              <a:lnSpc>
                <a:spcPct val="80000"/>
              </a:lnSpc>
              <a:spcBef>
                <a:spcPts val="649"/>
              </a:spcBef>
              <a:buClr>
                <a:srgbClr val="1d86cd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12121"/>
                </a:solidFill>
                <a:latin typeface="Franklin Gothic Medium"/>
              </a:rPr>
              <a:t>What factors are involved in self-regulated learning?</a:t>
            </a:r>
            <a:endParaRPr b="0" lang="en-US" sz="2600" spc="-1" strike="noStrike">
              <a:solidFill>
                <a:srgbClr val="212121"/>
              </a:solidFill>
              <a:latin typeface="Franklin Gothic Medium"/>
            </a:endParaRPr>
          </a:p>
          <a:p>
            <a:pPr marL="501480" indent="-457200">
              <a:lnSpc>
                <a:spcPct val="80000"/>
              </a:lnSpc>
              <a:spcBef>
                <a:spcPts val="649"/>
              </a:spcBef>
              <a:buClr>
                <a:srgbClr val="1d86cd"/>
              </a:buClr>
              <a:buFont typeface="Franklin Gothic Med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12121"/>
              </a:solidFill>
              <a:latin typeface="Franklin Gothic Medium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OSED BOOK QUIZ </a:t>
            </a:r>
            <a:r>
              <a:rPr b="0" lang="en-US" sz="2000" spc="-1" strike="noStrike">
                <a:solidFill>
                  <a:srgbClr val="ffffff"/>
                </a:solidFill>
                <a:latin typeface="Franklin Gothic Medium"/>
              </a:rPr>
              <a:t>(5 MINUTES)</a:t>
            </a:r>
            <a:endParaRPr b="0" lang="en-US" sz="20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5" name="Footer Placeholder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4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0151-D8A2-4B59-8648-7D9146C2C3B6}" type="slidenum">
              <a:rPr b="0" lang="en-US" sz="1100" spc="-1" strike="noStrike">
                <a:solidFill>
                  <a:srgbClr val="21212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Content Placeholder 5" descr=""/>
          <p:cNvPicPr/>
          <p:nvPr/>
        </p:nvPicPr>
        <p:blipFill>
          <a:blip r:embed="rId1"/>
          <a:stretch/>
        </p:blipFill>
        <p:spPr>
          <a:xfrm>
            <a:off x="378000" y="1712880"/>
            <a:ext cx="8424720" cy="442584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QUIZ--- FOUR VIEWS OF LEARNING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WHICH THEORIST GOES WHERE?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9" name="Footer Placeholder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4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1234-2619-458D-8735-BF18DD37A548}" type="slidenum">
              <a:rPr b="0" lang="en-US" sz="1100" spc="-1" strike="noStrike">
                <a:solidFill>
                  <a:srgbClr val="21212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04920" y="5562720"/>
            <a:ext cx="8534160" cy="914400"/>
          </a:xfrm>
          <a:prstGeom prst="rect">
            <a:avLst/>
          </a:prstGeom>
          <a:solidFill>
            <a:srgbClr val="b50b1b"/>
          </a:solidFill>
          <a:ln w="19080">
            <a:solidFill>
              <a:srgbClr val="1261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"/>
              </a:rPr>
              <a:t>Bandura, Bruner, Pavlov, Piaget, Skinner, Thorndike, Watson, Vygots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7162560" y="2892600"/>
            <a:ext cx="1600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dd4d7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title"/>
          </p:nvPr>
        </p:nvSpPr>
        <p:spPr>
          <a:xfrm>
            <a:off x="380520" y="2892600"/>
            <a:ext cx="6324840" cy="164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Franklin Gothic Medium"/>
              </a:rPr>
              <a:t>TURN IN QUIZ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Franklin Gothic Medium"/>
              </a:rPr>
              <a:t>ALYSSA COLLECT</a:t>
            </a:r>
            <a:endParaRPr b="0" lang="en-US" sz="4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DB32-ABF1-47D8-AB2F-D9B0E2ADDB81}" type="slidenum">
              <a:rPr b="0" lang="en-US" sz="1100" spc="-1" strike="noStrike">
                <a:solidFill>
                  <a:srgbClr val="cdd4d7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ooter Placeholder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Content Placeholder 5" descr=""/>
          <p:cNvPicPr/>
          <p:nvPr/>
        </p:nvPicPr>
        <p:blipFill>
          <a:blip r:embed="rId1"/>
          <a:stretch/>
        </p:blipFill>
        <p:spPr>
          <a:xfrm>
            <a:off x="378000" y="1712880"/>
            <a:ext cx="8424720" cy="442584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THE FOUR VIEWS OF LEARNING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38" name="Footer Placeholder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12121"/>
                </a:solidFill>
                <a:latin typeface="Arial"/>
                <a:ea typeface="ＭＳ Ｐゴシック"/>
              </a:rPr>
              <a:t>Killham -- 1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4"/>
          <p:cNvSpPr/>
          <p:nvPr/>
        </p:nvSpPr>
        <p:spPr>
          <a:xfrm>
            <a:off x="8234280" y="635472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A4F2-D5A6-4347-843B-6ECF298CE037}" type="slidenum">
              <a:rPr b="0" lang="en-US" sz="1100" spc="-1" strike="noStrike">
                <a:solidFill>
                  <a:srgbClr val="212121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22:16:31Z</dcterms:created>
  <dc:creator>Kelli Jette</dc:creator>
  <dc:description/>
  <dc:language>en-US</dc:language>
  <cp:lastModifiedBy>cechuser</cp:lastModifiedBy>
  <dcterms:modified xsi:type="dcterms:W3CDTF">2014-04-16T16:43:15Z</dcterms:modified>
  <cp:revision>41</cp:revision>
  <dc:subject/>
  <dc:title>Chapter 10</dc:title>
</cp:coreProperties>
</file>